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9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ppet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vorha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ein Appet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orha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orex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77680" y="5493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norex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2" idx="3"/>
            <a:endCxn id="153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ein Appet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rha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ier wi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 fress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6640" y="54936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norex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kein Appetit vorha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ier wi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 fress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4840" y="549360"/>
            <a:ext cx="65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Anorex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kein Appetit vorhanden &gt; Tier will nicht fress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6" idx="3"/>
            <a:endCxn id="15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ystemische Krankhei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eruchssinn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icht-schmeckendes Futte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sychische 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Stress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6" idx="3"/>
            <a:endCxn id="10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ppet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rha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Tier kan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cht fress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61200" y="54936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orex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ppetit vorha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ier kan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 fress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merz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e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ressvorga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ressfun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0" idx="3"/>
            <a:endCxn id="11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4" name=""/>
          <p:cNvCxnSpPr>
            <a:stCxn id="110" idx="3"/>
            <a:endCxn id="11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1056960" y="549360"/>
            <a:ext cx="57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norex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ppetit vorhand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Tier kann nicht fress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merz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ressvorga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88640" y="549360"/>
            <a:ext cx="717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norex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ppetit vorhand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Tier kann nicht fres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Schmerz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eim Fressvorga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7" idx="3"/>
            <a:endCxn id="12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chleimhautulzer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eck-Lesions (Katze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ressfun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uck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u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2" idx="3"/>
            <a:endCxn id="12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6" name=""/>
          <p:cNvCxnSpPr>
            <a:stCxn id="122" idx="3"/>
            <a:endCxn id="12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1108080" y="54936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orex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ppetit vorhand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Tier kann nicht fres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Fressfun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luck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echanisch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indern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3"/>
            <a:endCxn id="13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3" name=""/>
          <p:cNvCxnSpPr>
            <a:stCxn id="129" idx="3"/>
            <a:endCxn id="13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1108080" y="54936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orex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ppetit vorhand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Tier kann nicht fres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Fressfunk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chluck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neurolog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urolog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08080" y="54936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norex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ppetit vorhand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Tier kann nicht fres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ressfunk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chluckstör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neurologische 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6" idx="3"/>
            <a:endCxn id="13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rikopharynge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chalas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ollwu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etanu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chanisch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indern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08080" y="54936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norex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ppetit vorhand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Tier kann nicht fres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ressfunk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chluckstör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mechanisches Hindern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1" idx="3"/>
            <a:endCxn id="14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remdkörpe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wellung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u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08080" y="54936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norex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ppetit vorhand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Tier kann nicht fressen &gt; 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ressfunktion &gt; Kau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6" idx="3"/>
            <a:endCxn id="14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ieferluxa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aumuskelmyos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äs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Nervus trigeminu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7T08:09:41Z</dcterms:modified>
  <cp:revision>331</cp:revision>
  <dc:subject/>
  <dc:title>Vorstellung einer Neuheit</dc:title>
</cp:coreProperties>
</file>